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B25D-7B2D-4B79-98B3-3936EF470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1f02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1f02"/>
                </a:solidFill>
                <a:latin typeface="Arial"/>
              </a:rPr>
              <a:t>As coaches our focus is on asking questions 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1f0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b21f02"/>
                </a:solidFill>
                <a:latin typeface="Arial"/>
              </a:rPr>
              <a:t>This way I can avoid providing the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1f02"/>
                </a:solidFill>
                <a:latin typeface="Arial"/>
              </a:rPr>
              <a:t>Compare this  with mentor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C9AF-430F-4B41-8B7B-B5EAE7F08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C719-2D73-4810-9ADF-EE345B74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10B8-02D8-4359-8F74-805E6FE1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A73A-EBB5-4F83-BD3A-AD8FF916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76AF-3A30-4B8A-945C-A8496ED8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BD29-79AF-4BF4-B88C-02740EF4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48DB-8C54-4764-8920-27856673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CA12-7545-47B2-BD3B-6C252572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BB65-9EC8-44A6-B2D2-DAF7CE5C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46DD-CC22-42C9-B3D0-E81538B6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0B24-5CD3-414E-9851-F669CA7E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CA30-2F83-435A-A3A2-A8168C6E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6E2D-47E0-49F2-BA6C-83C21BE9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0855-A09C-460B-8888-3586DB70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FF11-0C81-41C4-9128-FE9C42CC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C20F-CF1D-4013-B89B-3B5CB57B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FB8A-3B51-41B6-AE67-B24F10BD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645D-039B-4AD8-A781-FDA83324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81C6-6DD4-42E1-B2D9-A27680C3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42D7-0F7E-46B9-8D00-0B98CBD5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068-40DB-4C3D-96E9-6686681A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5164-F1C8-4BB2-BA05-9B2BEBFA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0AC7-A458-43CF-8168-8132BF1F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F111-BFEF-459F-B966-F076562E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6B30-950D-482B-8551-82DCC19F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C7E5-5487-4ED6-8DD3-D463CAB30E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2245-D8A1-4F05-ACE7-B710541DF3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A Professional Learning Model</a:t>
            </a:r>
            <a:br>
              <a:rPr sz="3600"/>
            </a:b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~ Coaching ~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ew educational innovations achieve their full impact without a coaching component.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Joyce and Showers (1988) found that only when the component of coaching was added was the innovation internalized, valued and transferred to the classroo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privatization enhances the intellectual capacities of teachers, which, in turn,  produces greater intellectual achievements in studen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ffective Professional Lear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5596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3925800" y="40053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 rot="20735400">
            <a:off x="5916600" y="5492520"/>
            <a:ext cx="21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entury Gothic"/>
              </a:rPr>
              <a:t>Lesson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 rot="21213600">
            <a:off x="7087320" y="269532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Century Gothic"/>
              </a:rPr>
              <a:t>CA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 rot="20947800">
            <a:off x="4856400" y="217944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Walk 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 rot="693000">
            <a:off x="969480" y="2467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entury Gothic"/>
              </a:rPr>
              <a:t>Pre-br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 rot="1062000">
            <a:off x="2937960" y="203508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Century Gothic"/>
              </a:rPr>
              <a:t>PA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 rot="21312000">
            <a:off x="2324520" y="299736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entury Gothic"/>
              </a:rPr>
              <a:t>Learning W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 rot="1284600">
            <a:off x="1092600" y="546840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Coaching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 rot="21310800">
            <a:off x="2597040" y="4602240"/>
            <a:ext cx="14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Lab Sit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 rot="314400">
            <a:off x="5005080" y="4700160"/>
            <a:ext cx="25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Planne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 rot="19259400">
            <a:off x="1170720" y="38383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 rot="621600">
            <a:off x="5579640" y="3500280"/>
            <a:ext cx="30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fessional 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 rot="10800000">
            <a:off x="1186920" y="3344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Professional Dialo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0832600">
            <a:off x="3772440" y="5319360"/>
            <a:ext cx="18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-Br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500600">
            <a:off x="1524960" y="16570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n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6160" y="169380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4360" y="17924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eer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27240" y="395280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ritical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9080" y="60213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School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77080" y="623088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On-lin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2360" y="611352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tudy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ach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er coaching is a highly sophisticated form of school based professional reflective practice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is a series of conversations designed to assist teachers to extend their personal and professional learning to improve student achievement.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Julie Boyd,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2055960" y="985680"/>
            <a:ext cx="4959000" cy="4960800"/>
            <a:chOff x="2055960" y="985680"/>
            <a:chExt cx="4959000" cy="4960800"/>
          </a:xfrm>
        </p:grpSpPr>
        <p:sp>
          <p:nvSpPr>
            <p:cNvPr id="108" name="_s22532"/>
            <p:cNvSpPr/>
            <p:nvPr/>
          </p:nvSpPr>
          <p:spPr>
            <a:xfrm>
              <a:off x="2849400" y="985680"/>
              <a:ext cx="3372120" cy="3373560"/>
            </a:xfrm>
            <a:custGeom>
              <a:avLst/>
              <a:gdLst>
                <a:gd name="textAreaLeft" fmla="*/ 0 w 3372120"/>
                <a:gd name="textAreaRight" fmla="*/ 3372480 w 3372120"/>
                <a:gd name="textAreaTop" fmla="*/ 0 h 3373560"/>
                <a:gd name="textAreaBottom" fmla="*/ 3373920 h 337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990033"/>
                </a:gs>
                <a:gs pos="100000">
                  <a:srgbClr val="ffffe1"/>
                </a:gs>
              </a:gsLst>
              <a:lin ang="81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2533"/>
            <p:cNvSpPr/>
            <p:nvPr/>
          </p:nvSpPr>
          <p:spPr>
            <a:xfrm rot="5400000">
              <a:off x="3642120" y="1779840"/>
              <a:ext cx="3373560" cy="3372120"/>
            </a:xfrm>
            <a:custGeom>
              <a:avLst/>
              <a:gdLst>
                <a:gd name="textAreaLeft" fmla="*/ 0 w 3373560"/>
                <a:gd name="textAreaRight" fmla="*/ 3373920 w 3373560"/>
                <a:gd name="textAreaTop" fmla="*/ 0 h 3372120"/>
                <a:gd name="textAreaBottom" fmla="*/ 3372480 h 337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e1"/>
                </a:gs>
              </a:gsLst>
              <a:lin ang="27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22534"/>
            <p:cNvSpPr/>
            <p:nvPr/>
          </p:nvSpPr>
          <p:spPr>
            <a:xfrm rot="10800000">
              <a:off x="2849040" y="2572920"/>
              <a:ext cx="3372120" cy="3373560"/>
            </a:xfrm>
            <a:custGeom>
              <a:avLst/>
              <a:gdLst>
                <a:gd name="textAreaLeft" fmla="*/ 0 w 3372120"/>
                <a:gd name="textAreaRight" fmla="*/ 3372480 w 3372120"/>
                <a:gd name="textAreaTop" fmla="*/ 0 h 3373560"/>
                <a:gd name="textAreaBottom" fmla="*/ 3373920 h 337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cccc99"/>
                </a:gs>
                <a:gs pos="100000">
                  <a:srgbClr val="ffffe1"/>
                </a:gs>
              </a:gsLst>
              <a:lin ang="189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2535"/>
            <p:cNvSpPr/>
            <p:nvPr/>
          </p:nvSpPr>
          <p:spPr>
            <a:xfrm rot="16200000">
              <a:off x="2054880" y="1779840"/>
              <a:ext cx="3373560" cy="3371760"/>
            </a:xfrm>
            <a:custGeom>
              <a:avLst/>
              <a:gdLst>
                <a:gd name="textAreaLeft" fmla="*/ 0 w 3373560"/>
                <a:gd name="textAreaRight" fmla="*/ 3373920 w 3373560"/>
                <a:gd name="textAreaTop" fmla="*/ 0 h 3371760"/>
                <a:gd name="textAreaBottom" fmla="*/ 3372120 h 33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e1"/>
                </a:gs>
              </a:gsLst>
              <a:lin ang="1350000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2536"/>
            <p:cNvSpPr/>
            <p:nvPr/>
          </p:nvSpPr>
          <p:spPr>
            <a:xfrm>
              <a:off x="5432400" y="1297080"/>
              <a:ext cx="127008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DEBRIE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flect upon th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equences of action i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situation based o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llect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22537"/>
            <p:cNvSpPr/>
            <p:nvPr/>
          </p:nvSpPr>
          <p:spPr>
            <a:xfrm>
              <a:off x="5433840" y="4361040"/>
              <a:ext cx="1270080" cy="12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LANNED LEAR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plore and diagnos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experience 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dertaking n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ar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2538"/>
            <p:cNvSpPr/>
            <p:nvPr/>
          </p:nvSpPr>
          <p:spPr>
            <a:xfrm>
              <a:off x="2370240" y="4363920"/>
              <a:ext cx="126972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RE-BRIE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teaching focus is explo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n actions so a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mprove the sit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2539"/>
            <p:cNvSpPr/>
            <p:nvPr/>
          </p:nvSpPr>
          <p:spPr>
            <a:xfrm>
              <a:off x="2367000" y="1300320"/>
              <a:ext cx="1270080" cy="12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OBSERVATION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mplement and observ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Plan in the sit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bjected data is collect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92360" y="2781360"/>
              <a:ext cx="237672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0033"/>
                  </a:solidFill>
                  <a:uFillTx/>
                  <a:latin typeface="Arial"/>
                </a:rPr>
                <a:t>The Coaching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0033"/>
                  </a:solidFill>
                  <a:latin typeface="Arial"/>
                </a:rPr>
                <a:t>Effective coaches focus on the specific needs identified by the teachers being coached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ach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vant to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sed on stud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based and data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best available research on effective teaching &amp;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dagogical/Discipline/Pedagogical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mpact of professional development &amp; training on job performan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55640" y="1809720"/>
          <a:ext cx="7696080" cy="4398840"/>
        </p:xfrm>
        <a:graphic>
          <a:graphicData uri="http://schemas.openxmlformats.org/drawingml/2006/table">
            <a:tbl>
              <a:tblPr/>
              <a:tblGrid>
                <a:gridCol w="2664000"/>
                <a:gridCol w="1873080"/>
                <a:gridCol w="1440000"/>
                <a:gridCol w="171900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components &amp; combin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ory and demonst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ory &amp; demonstration, practice and feed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ory &amp; demonstration, practice, feedback and co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95360" y="6345360"/>
            <a:ext cx="8254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ference: Training components, their combinations and impact on job performance (based on Joyce and Sowers, 1988 adapted by Wallace, M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 Claxton, g. et al (1996). Liberating the learner, London: Routledge, p.2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uning Protocol – 11mi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1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2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1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Feedback &amp; Reflective Questions        1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on Strengt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2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ve Ques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2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senter takes notes and DOES NOT respond y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r Responds &amp; Open Conversation  1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on the 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1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Links</a:t>
            </a:r>
            <a:br>
              <a:rPr sz="36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77724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How have the ideas of these educational thinkers; Showers, Lieberman and Miller influenced education in Victor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School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ven Principals of Highly Effective Professional Developmen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Coach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Elmore’s Second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Dialogue; PALTS, Learning Walks, Lesson Study, Lab Site, Walk Throughs, Professional Reading, Protocols, etc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EFFECTIVE SCHOO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96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04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ELMORE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39280" y="1844280"/>
            <a:ext cx="8425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Rage Italic"/>
              </a:rPr>
              <a:t>Elmore’s second law of professional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2781360"/>
            <a:ext cx="331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ge Italic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Rage Italic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</a:t>
            </a:r>
            <a:r>
              <a:rPr b="0" lang="en-US" sz="4000" spc="-1" strike="noStrike">
                <a:solidFill>
                  <a:srgbClr val="000000"/>
                </a:solidFill>
                <a:latin typeface="Rage Ital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Rage Italic"/>
              </a:rPr>
              <a:t>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3016080"/>
            <a:ext cx="6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573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27480" y="3573360"/>
            <a:ext cx="5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age Itali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4686480"/>
            <a:ext cx="8209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ffect of professional development on practice and performance is inverse to the square of its distance from the classroom.”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chool Reform from the Inside Out; Policy, Practice and Performanc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ichard F. Elmor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4869000"/>
            <a:ext cx="77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3716280"/>
            <a:ext cx="6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366408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ge Italic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Rage Ital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visi" descr=""/>
          <p:cNvPicPr/>
          <p:nvPr/>
        </p:nvPicPr>
        <p:blipFill>
          <a:blip r:embed="rId1"/>
          <a:stretch/>
        </p:blipFill>
        <p:spPr>
          <a:xfrm>
            <a:off x="1557360" y="2637000"/>
            <a:ext cx="1143000" cy="1685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05:31:32Z</dcterms:created>
  <dc:creator>02523066</dc:creator>
  <dc:description/>
  <dc:language>en-US</dc:language>
  <cp:lastModifiedBy>02523066</cp:lastModifiedBy>
  <dcterms:modified xsi:type="dcterms:W3CDTF">2009-05-10T07:25:12Z</dcterms:modified>
  <cp:revision>5</cp:revision>
  <dc:subject/>
  <dc:title>EFFECTIVE SCHOOLS</dc:title>
</cp:coreProperties>
</file>